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91679-FA5D-4A25-BB0C-13B7DFE0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62D5E-D2AB-4F49-92D7-371004CB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A2DF3-93A9-4DC6-953F-D17722C3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ABF44-0CF6-44C2-A663-7D415ECD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CD324-E099-4C05-819C-0E5572E3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D830B-DEA4-429E-854A-1693E390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4B39D-7906-410D-9D86-86866395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F8C16-B6D5-4E4E-AE1E-5485CC26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C4B47-02E9-440F-BBAD-5D40150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33A7F-AB0E-4524-90BA-98D05C57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DFEDA-4B6E-4952-A979-76EF5668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CDDD1-C239-4449-97B2-04E7A947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9640" y="6381720"/>
            <a:ext cx="574920" cy="3682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0DB3-303E-4B4C-B036-23F8418FB4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2163-47E8-4790-A712-3866AC6386B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ide.ker.sch.gr/ekfe/epiloges/4_apeiramata/panos1.htm" TargetMode="External"/><Relationship Id="rId2" Type="http://schemas.openxmlformats.org/officeDocument/2006/relationships/hyperlink" Target="file:///magnets-and-electromagnets_el.jar" TargetMode="External"/><Relationship Id="rId3" Type="http://schemas.openxmlformats.org/officeDocument/2006/relationships/hyperlink" Target="http://dide.ker.sch.gr/ekfe/epiloges/5_kataskeves/8mega-mikr/mikro-mega.htmhttp:/dide.ker.sch.gr/ekfe/epiloges/5_kataskeves/8mega-mikr/mikro-mega.htm" TargetMode="External"/><Relationship Id="rId4" Type="http://schemas.openxmlformats.org/officeDocument/2006/relationships/hyperlink" Target="http://dide.ker.sch.gr/ekfe/epiloges/5_kataskeves/13thlefono/phone.htm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Η έννοια «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μαγνητικό πεδί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Πάνος Μουρούζης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Φυσικός Ρ/Η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Υπεύθυνος Ε.Κ.Φ.Ε Κέρκυρα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47199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33cc"/>
                </a:solidFill>
                <a:latin typeface="Arial"/>
              </a:rPr>
              <a:t>Και εγένετο φω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Όταν ένα φορτίο επιταχύνεται προκαλεί μεταβαλλόμενο ηλεκτρικό και μαγνητικό πεδίο που ταξιδεύει. Δηλαδή ηλεκτρομαγνητικό κύμα. Αυτό το κύμα στα όρια κάποιων συχνοτήτων ονομάζεται «φως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Τι συμβαίνει αλήθεια σε ένα επιταχυνόμενο σύστημα αναφοράς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692280"/>
            <a:ext cx="8211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Μερικές «περίεργες» επεκτάσεις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Η έννοια ηλεκτρομαγνητικό πεδίο αναβαθμίζεται από έννοια που περιγράφει ιδιότητες σε έννοια που περιγράφει οντότητες.  Με άλλα λόγια μπορεί να υπάρχει ηλεκτρομαγνητικό πεδίο χωρίς πηγές και ακόμη πιο συγκλονιστικό, η αντίληψη που έχουμε για τον κόσμο μας, βασίζεται σε μεγάλο βαθμό σε μέρος από αυτήν την οντότητα. Δηλαδή στο φως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672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Τα πειράματα και οι εφαρμογέ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Κτίσιμο των εννοιών μέσα από σειρά πειραμάτων. Δύναμη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place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δύναμη σε κινούμενα φορτία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Ο ρόλος των «</a:t>
            </a:r>
            <a:r>
              <a:rPr b="0" lang="el-GR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αποτυχημένων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» πειραμάτων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Προσομοιώσεις </a:t>
            </a:r>
            <a:r>
              <a:rPr b="0" lang="el-GR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1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, 2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Ανάθεση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ject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σε μαθητές σχετικά με το θέμα όπως</a:t>
            </a:r>
            <a:br>
              <a:rPr sz="2800"/>
            </a:br>
            <a:r>
              <a:rPr b="0" lang="el-GR" sz="2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1.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κατασκευή μικροφώνου-μεγαφώνο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8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2.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κατασκευή τηλεφώνου</a:t>
            </a:r>
            <a:br>
              <a:rPr sz="2800"/>
            </a:b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3. μαγνητική αποθήκευση πληροφορία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4. δημιουργία συστημάτων σύγχρονης λήψης με μαγνητικούς αισθητήρες κλπ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Μαγνητικό πεδίο ευθύγραμμου αγωγο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8" name="ShockwaveFlash1"/>
          <p:cNvGraphicFramePr/>
          <p:nvPr/>
        </p:nvGraphicFramePr>
        <p:xfrm>
          <a:off x="1258920" y="1700280"/>
          <a:ext cx="676908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6769080" cy="4753080"/>
                  </a:xfrm>
                  <a:prstGeom prst="rect">
                    <a:avLst/>
                  </a:prstGeom>
                  <a:ln w="9360">
                    <a:solidFill>
                      <a:srgbClr val="29292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Τα προπατορικά αμαρτήματα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εκπαίδευση δεν συμβαδίζει με την επιστήμη.   Με αποτέλεσμα να διδάσκονται έννοιες και μοντέλα που η επιστήμη από καιρό τις έχει εγκαταλείψει. Παραδείγματα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Οι συνθήκες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ohr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και το αντίστοιχο ατομικό πρότυπο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Οι δυναμικές γραμμές του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arada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Το μοντέλο ερμηνείας του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in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ως αποτέλεσμα περιστροφής των ηλεκτρονίων γύρω από τον πυρήνα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157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Η Πρότα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72632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Ένα σύγχρονο αναλυτικό πρόγραμμα σπουδών θα πρέπει να χαρακτηρίζεται και από την αύξηση του κοινού συνόλου μεταξύ εκπαίδευσης  και σύγχρονης επιστήμης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Κάποια παλιά μοντέλα χωρίς εκπαιδευτικό ενδιαφέρον θα πρέπει να εγκαταλείπονται. Κάποια νέα όπως το καθιερωμένο μοντέλο ή η σύγχρονη κβαντομηχανική, θα πρέπει να μετασχηματίζονται και να ενσωματώνονται στην εκπαιδευτική διαδικασία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1560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 u="sng">
                <a:solidFill>
                  <a:srgbClr val="292929"/>
                </a:solidFill>
                <a:uFillTx/>
                <a:latin typeface="Comic Sans MS"/>
              </a:rPr>
              <a:t>Το πρώτο  βήμα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 . Εργαστηριακή δραστηριότητα με αντικείμενα μαγνήτη,  μαγνητικές βελόνες και σιδηρορινίσματα. Τα φαινόμενα </a:t>
            </a:r>
            <a:r>
              <a:rPr b="0" i="1" lang="el-GR" sz="1400" spc="-1" strike="noStrike">
                <a:solidFill>
                  <a:srgbClr val="292929"/>
                </a:solidFill>
                <a:latin typeface="Comic Sans MS"/>
              </a:rPr>
              <a:t>αλληλεπίδραση του μαγνήτη με τη βελόνα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 και  </a:t>
            </a:r>
            <a:r>
              <a:rPr b="0" i="1" lang="el-GR" sz="1400" spc="-1" strike="noStrike">
                <a:solidFill>
                  <a:srgbClr val="292929"/>
                </a:solidFill>
                <a:latin typeface="Comic Sans MS"/>
              </a:rPr>
              <a:t>αλληλεπίδραση του μαγνήτη με τα ρινόσματα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. Εστίαση στα αντικείμενα. Η  μαγνητική βελόνα είναι μαγνήτης με σχετικά μικρή αδράνεια, σε ειδική κατασκευή ώστε να αγνοεί τη δράση του πεδίου βαρύτητας και να είναι ασήμαντη η παρουσία των τριβών. Τα σιδηρορινίσματα είναι αντικείμενα με μικρή αδράνεια , δεν είναι μαγνήτες αλλά με την εμφάνισή τους στο μαγνητικό πεδίο γίνονται μαγνήτες, μαγνητίζονται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05884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292929"/>
                </a:solidFill>
                <a:uFillTx/>
                <a:latin typeface="Comic Sans MS"/>
              </a:rPr>
              <a:t>Το δεύτερο  βήμα</a:t>
            </a:r>
            <a:r>
              <a:rPr b="0" lang="en-US" sz="1400" spc="-1" strike="noStrike">
                <a:solidFill>
                  <a:srgbClr val="292929"/>
                </a:solidFill>
                <a:latin typeface="Comic Sans MS"/>
              </a:rPr>
              <a:t> Καθοδήγηση προς το να διακρίνουν οι διδασκόμενοι τις αόρατες γραμμές στις οποίες ξαπλώνουν τα ρινίσματα. Η έννοια </a:t>
            </a:r>
            <a:r>
              <a:rPr b="0" i="1" lang="en-US" sz="1400" spc="-1" strike="noStrike">
                <a:solidFill>
                  <a:srgbClr val="292929"/>
                </a:solidFill>
                <a:latin typeface="Comic Sans MS"/>
              </a:rPr>
              <a:t>δυναμικές γραμμές μαγνητικού</a:t>
            </a:r>
            <a:r>
              <a:rPr b="0" lang="en-US" sz="1400" spc="-1" strike="noStrike">
                <a:solidFill>
                  <a:srgbClr val="292929"/>
                </a:solidFill>
                <a:latin typeface="Comic Sans MS"/>
              </a:rPr>
              <a:t> πεδίου ως μέσο για την περιγραφή του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292929"/>
                </a:solidFill>
                <a:uFillTx/>
                <a:latin typeface="Comic Sans MS"/>
              </a:rPr>
              <a:t>Το τρίτο  βήμα</a:t>
            </a:r>
            <a:r>
              <a:rPr b="0" lang="en-US" sz="1400" spc="-1" strike="noStrike">
                <a:solidFill>
                  <a:srgbClr val="292929"/>
                </a:solidFill>
                <a:latin typeface="Comic Sans MS"/>
              </a:rPr>
              <a:t> . Το φαινόμενο αλληλεπίδραση δύο μαγνητών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Comic Sans MS"/>
              </a:rPr>
              <a:t>Η περιγραφή του       </a:t>
            </a:r>
            <a:r>
              <a:rPr b="1" lang="en-US" sz="1400" spc="-1" strike="noStrike">
                <a:solidFill>
                  <a:srgbClr val="292929"/>
                </a:solidFill>
                <a:latin typeface="Comic Sans MS"/>
              </a:rPr>
              <a:t>α.</a:t>
            </a:r>
            <a:r>
              <a:rPr b="0" lang="en-US" sz="1400" spc="-1" strike="noStrike">
                <a:solidFill>
                  <a:srgbClr val="292929"/>
                </a:solidFill>
                <a:latin typeface="Comic Sans MS"/>
              </a:rPr>
              <a:t> ως δράση του ενός μαγνήτη στον άλλο   </a:t>
            </a:r>
            <a:r>
              <a:rPr b="1" lang="en-US" sz="1400" spc="-1" strike="noStrike">
                <a:solidFill>
                  <a:srgbClr val="292929"/>
                </a:solidFill>
                <a:latin typeface="Comic Sans MS"/>
              </a:rPr>
              <a:t>β.</a:t>
            </a:r>
            <a:r>
              <a:rPr b="0" lang="en-US" sz="1400" spc="-1" strike="noStrike">
                <a:solidFill>
                  <a:srgbClr val="292929"/>
                </a:solidFill>
                <a:latin typeface="Comic Sans MS"/>
              </a:rPr>
              <a:t> με βάση  την έννοια </a:t>
            </a:r>
            <a:r>
              <a:rPr b="0" i="1" lang="en-US" sz="1400" spc="-1" strike="noStrike">
                <a:solidFill>
                  <a:srgbClr val="292929"/>
                </a:solidFill>
                <a:latin typeface="Comic Sans MS"/>
              </a:rPr>
              <a:t>μαγνητικό πεδίο</a:t>
            </a:r>
            <a:r>
              <a:rPr b="0" lang="en-US" sz="1400" spc="-1" strike="noStrike">
                <a:solidFill>
                  <a:srgbClr val="292929"/>
                </a:solidFill>
                <a:latin typeface="Comic Sans MS"/>
              </a:rPr>
              <a:t>.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94840"/>
            <a:ext cx="914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 u="sng">
                <a:solidFill>
                  <a:srgbClr val="292929"/>
                </a:solidFill>
                <a:uFillTx/>
                <a:latin typeface="Comic Sans MS"/>
              </a:rPr>
              <a:t>Το τέταρτο βήμα 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     Διατύπωση των τριών βασικών ερωτημάτων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«Τι λέγεται μαγνητικό πεδίο ; » «Πώς δημιουργείται;»  και «Πώς περιγράφεται ;»  Οι πρώτες απαντήσεις στα τρία ερωτήματα.  Εστίαση στη διάκριση των  αντικειμένων </a:t>
            </a:r>
            <a:r>
              <a:rPr b="0" i="1" lang="el-GR" sz="1400" spc="-1" strike="noStrike">
                <a:solidFill>
                  <a:srgbClr val="292929"/>
                </a:solidFill>
                <a:latin typeface="Comic Sans MS"/>
              </a:rPr>
              <a:t>πηγή μαγνητικού πεδίου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 και «</a:t>
            </a:r>
            <a:r>
              <a:rPr b="0" i="1" lang="el-GR" sz="1400" spc="-1" strike="noStrike">
                <a:solidFill>
                  <a:srgbClr val="292929"/>
                </a:solidFill>
                <a:latin typeface="Comic Sans MS"/>
              </a:rPr>
              <a:t>επισκέπτης»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 u="sng">
                <a:solidFill>
                  <a:srgbClr val="292929"/>
                </a:solidFill>
                <a:uFillTx/>
                <a:latin typeface="Comic Sans MS"/>
              </a:rPr>
              <a:t>Το πέμπτο βήμα.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. Εργαστηριακές δραστηριότητες με ρευματοφόρους αγωγούς  σιδηρορινίσματα και μαγνητικές βελόνες. Αρχικά με ευθύγραμμους αγωγούς στη συνέχεια με πηνία.  Η μαγνητική βελόνα ένας εξαιρετικός ανιχνευτής μαγνητικού πεδίου.  Καθοδήγηση προς το να διακρίνουν οι διδασκόμενοι τις δυναμικές γραμμές ευθύγραμμου  ρευματοφόρου αγωγού και ρευματοφόρου πηνίου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πεδίου. Η μονάδα ένα τέσλα. Ο Νικολας Τέσλα, μια ξεχωριστή παρουσία στην εξέλιξη της Φυσικής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742280"/>
            <a:ext cx="9144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 u="sng">
                <a:solidFill>
                  <a:srgbClr val="292929"/>
                </a:solidFill>
                <a:uFillTx/>
                <a:latin typeface="Comic Sans MS"/>
              </a:rPr>
              <a:t>Το έκτο βήμα.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  Εμπλουτισμός της απάντησης στο ερώτημα « πώς δημιουργείται ένα μαγνητικό πεδίο;»  με την εισαγωγή του αντικειμένου-πηγή «ρευματοφόρος αγωγός».  Το μαγνητικό πεδίο με πηγή το ρευματοφόρο πηνίο συγκριτικά ισχυρότερο από το μαγνητικό πεδίο με πηγή τον ευθύγραμμο ρευματοφορο αγωγό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 u="sng">
                <a:solidFill>
                  <a:srgbClr val="292929"/>
                </a:solidFill>
                <a:uFillTx/>
                <a:latin typeface="Comic Sans MS"/>
              </a:rPr>
              <a:t>Το έβδομο βήμα.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  Εργαστηριακές δραστηριότητες με πεταλοειδές πηνίο και ευθύγραμμο ρευματοφόρο αγωγό. Καθοδήγηση στο να διακρίνουν οι διδασκόμενοι τη γεωμετρία της σχετικής δύναμης Λαπλάς. Το ερώτημα για την τιμή της  δύναμης Λαπλάς και η απάντησή του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292929"/>
                </a:solidFill>
                <a:latin typeface="Comic Sans MS"/>
              </a:rPr>
              <a:t>Χρήση νέων τεχνολογιών</a:t>
            </a:r>
            <a:r>
              <a:rPr b="0" lang="el-GR" sz="1400" spc="-1" strike="noStrike">
                <a:solidFill>
                  <a:srgbClr val="292929"/>
                </a:solidFill>
                <a:latin typeface="Comic Sans MS"/>
              </a:rPr>
              <a:t> για την παρουσίαση της – σε τρεις διαστάσεις - δράσης της δύναμης Λαπλάς . Παρουσίαση και ορισμός  της έννοιας ένταση μαγνητικού πεδίου. Η μονάδα ένα τέσλα. Ο Νικολας Τέσλα, μια ξεχωριστή παρουσία στην εξέλιξη της Φυσικής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72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Comic Sans MS"/>
              </a:rPr>
              <a:t>Η -μέσα από τη διδασκαλία- οικοδόμηση της έννοιας  </a:t>
            </a:r>
            <a:r>
              <a:rPr b="1" i="1" lang="en-US" sz="1600" spc="-1" strike="noStrike">
                <a:solidFill>
                  <a:srgbClr val="292929"/>
                </a:solidFill>
                <a:latin typeface="Comic Sans MS"/>
              </a:rPr>
              <a:t>ΜΑΓΝΗΤΙΚΟ ΠΕΔΙΟ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9044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92929"/>
                </a:solidFill>
                <a:uFillTx/>
                <a:latin typeface="Comic Sans MS"/>
              </a:rPr>
              <a:t>Το όγδοο βήμα.</a:t>
            </a:r>
            <a:r>
              <a:rPr b="0" lang="en-US" sz="18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en-US" sz="1600" spc="-1" strike="noStrike" u="sng">
                <a:solidFill>
                  <a:srgbClr val="292929"/>
                </a:solidFill>
                <a:uFillTx/>
                <a:latin typeface="Comic Sans MS"/>
              </a:rPr>
              <a:t>Το έβδομο βήμα.</a:t>
            </a: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  Εμπλουτισμός της απάντησης στο ερώτημα « τι λέγεται μαγνητικό πεδίο ;» με την αποσαφήνιση ότι «επισκέπτης» θα μπορούσε να είναι όχι μόνο ο μαγνήτης αλλά και ένα ρευματοφόρο καλώδιο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Εμπλουτισμός της απάντησης στο ερώτημα «πώς περιγράφεται ένα μαγνητικό πεδίο» με την προσθήκη της έννοιας ένταση μαγνητικού πεδίου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5800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292929"/>
                </a:solidFill>
                <a:uFillTx/>
                <a:latin typeface="Comic Sans MS"/>
              </a:rPr>
              <a:t>Το ένατο βήμα.</a:t>
            </a:r>
            <a:r>
              <a:rPr b="0" lang="el-GR" sz="1600" spc="-1" strike="noStrike">
                <a:solidFill>
                  <a:srgbClr val="292929"/>
                </a:solidFill>
                <a:latin typeface="Comic Sans MS"/>
              </a:rPr>
              <a:t> Η θεωρία για το τι είναι ηλεκτρικό ρεύμα. Το σωματίδιο ηλεκτρόνιο. Αναφορά σε πρωτόνια και σε ιόντα. Η δράση του μαγνητικού πεδίου σε κινούμενο σωματίδιο με ηλεκτρικό φορτίο. </a:t>
            </a:r>
            <a:r>
              <a:rPr b="1" lang="el-GR" sz="1600" spc="-1" strike="noStrike">
                <a:solidFill>
                  <a:srgbClr val="292929"/>
                </a:solidFill>
                <a:latin typeface="Comic Sans MS"/>
              </a:rPr>
              <a:t>Χρήση νέων τεχνολογιών.</a:t>
            </a:r>
            <a:r>
              <a:rPr b="0" lang="el-GR" sz="1600" spc="-1" strike="noStrike">
                <a:solidFill>
                  <a:srgbClr val="292929"/>
                </a:solidFill>
                <a:latin typeface="Comic Sans MS"/>
              </a:rPr>
              <a:t> Το ερώτημα για την τιμή και την κατεύθυνση της ασκούμενης δύναμης. Η εξίσωση Λόρεντς.  Επαναδιατύπωση του ορισμού της έννοιας </a:t>
            </a:r>
            <a:r>
              <a:rPr b="0" i="1" lang="el-GR" sz="1600" spc="-1" strike="noStrike">
                <a:solidFill>
                  <a:srgbClr val="292929"/>
                </a:solidFill>
                <a:latin typeface="Comic Sans MS"/>
              </a:rPr>
              <a:t>ένταση μαγνητικού πεδίου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97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92929"/>
                </a:solidFill>
                <a:uFillTx/>
                <a:latin typeface="Comic Sans MS"/>
              </a:rPr>
              <a:t>Το δέκατο  βήμα.</a:t>
            </a: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 Εμπλουτισμός της απάντησης στο αρχικό ερώτημα « τι λέγεται μαγνητικό πεδίο ;» με την αποσαφήνιση ότι «επισκέπτης» θα μπορούσε να είναι  ο μαγνήτης, το ρευματοφόρο καλώδιο είτε ένα κινούμενο σωματίδιο με ηλεκτρικό φορτίο. Το κοινό στοιχείο ανάμεσα στις τρεις μορφές του επισκέπτη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43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Η έννοια μαγνητικό πεδίο διδάσκεται μόνο στο Λύκειο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2217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92929"/>
                </a:solidFill>
                <a:uFillTx/>
                <a:latin typeface="Comic Sans MS"/>
              </a:rPr>
              <a:t>Το ενδέκατο  βήμα.</a:t>
            </a: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 Το μαγνητικό πεδίο ως βασικό εργαλείο για την έρευνα των σωματιδίων στον 20ο αιώνα. Πώς μετρήθηκε η μάζα του πρωτονίου; Πώς οδηγήθηκαν οι φυσικοί στη θεώρηση ότι υπάρχουν ισότοπα 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436104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Τα αντικείμενα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Μαγνήτες διαφόρων σχημάτων ( ραβδόμορφοι πεταλοειδείς κλπ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Πυξίδες ( ραβδόμορφοι μαγνήτες με δυνατότητα στρέψης 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Διάφορα μέταλλα όπως σιδερένια καρφιά, χαλκός, αλουμίνιο κλπ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Ρινίσματα σιδήρο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Σύρματα – πηνία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μπαταρίε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08720" y="1413000"/>
            <a:ext cx="1433520" cy="1709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481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41450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Τα φαινόμενα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Επίδραση μεταξύ μαγνητώ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Προσανατολισμός πυξίδω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Επίδραση μαγνήτη ρευματοφόρου αγωγού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Επίδραση μεταξύ ρευματοφόρων αγωγών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3640" y="5300640"/>
            <a:ext cx="1871640" cy="126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5326200"/>
            <a:ext cx="20890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985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Οι τυπικές έννοιες - ιδιότητες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661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Μαγνητικό πεδίο δυνάμεων</a:t>
            </a:r>
            <a:br>
              <a:rPr sz="3200"/>
            </a:b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( πεδίο=ένας χώρος με κάποια ιδιότητα 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Μαγνητικές γραμμές πεδίου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λοποιούν τις ιδιότητες του χώρου. Δεν είναι όμως «δυναμικές γραμμές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2448000" cy="1378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92720" y="5084640"/>
            <a:ext cx="23763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655164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Η τυπική έννοια - φυσικό μέγεθος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Ένταση μαγνητικού πεδίου Β ή πιο σωστά μαγνητική επαγωγή ή πυκνότητα μαγνητικής ροής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Ένα φυσικό μέγεθος που περιγράφει τις μαγνητικές αλληλεπιδράσεις και όχι μόνο. Βοηθάει και στην περιγραφή όλων των ηλεκτρομαγνητικών και οπτικών φαινομένων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34956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Ο τύπ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42920" y="1916280"/>
                <a:ext cx="4969080" cy="22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ℓ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023840" y="4456080"/>
            <a:ext cx="46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Οι μονάδες:   1Τ=1Ν/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05816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Οι διαφορές στο δίχτυ των εννοιώ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2104560"/>
            <a:ext cx="766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Το υπόθεμα εδώ δεν είναι «κάθεται ήσυχα»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Οι δυναμικές γραμμές είναι πάντα κλειστές. Δεν υπάρχουν πηγές ούτε και καταβόθρες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Το ομογενές πεδίο δεν προκαλεί μετακίνηση μαγνητών, παρά μόνο περιστροφή τους. Δεν έχουμε βρει «κάτι» που να του ασκείται δύναμη σε ομογενές μαγνητικό πεδίο. Δεν γνωρίζουμε γιατί συμβαίνει αυτ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Η σχετικότητα ηλεκτρικού και μαγνητικού πεδί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66152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Η αλλαγή του συστήματος αναφοράς δημιουργεί ή εξαφανίζει τα μαγνητικά πεδία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Ένα φορτίο στο τραίνο δημιουργεί για τον επιβάτη του τραίνου μόνο ηλεκτρικό πεδίο. Για τον παρατηρητή στην πλατφόρμα, και ηλεκτρικό και μαγνητικ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5084640"/>
            <a:ext cx="547200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1582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Το μαγνητικό πεδίο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45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ΑΣΚΕΙ ΔΥΝΑΜΕΙΣ ΣΕ.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Μόνιμους μαγνήτες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Ρευματοφόρους αγωγούς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Κινούμενα φορτία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0" y="198900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ΔΗΜΙΟΥΡΓΕΙΤΑΙ ΑΠΟ.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Μόνιμους μαγνήτες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Ρευματοφόρους αγωγούς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Κινούμενα φορτία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Μεταβαλλόμενο ηλεκτρικό πεδίο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7340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Από την έννοια – ιδιότητα στην έννοια - οντότητα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28:08Z</dcterms:created>
  <dc:creator>user</dc:creator>
  <dc:description/>
  <dc:language>en-US</dc:language>
  <cp:lastModifiedBy>user</cp:lastModifiedBy>
  <dcterms:modified xsi:type="dcterms:W3CDTF">2011-05-12T06:41:24Z</dcterms:modified>
  <cp:revision>19</cp:revision>
  <dc:subject/>
  <dc:title>Η έννοια του μαγνητικού πεδίου</dc:title>
</cp:coreProperties>
</file>